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73C-D636-4DB8-8489-B796F640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9B0-E50B-4C6E-99B2-A70566D5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5EB-201D-4B53-A938-6DD9929C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4D2-17AF-4851-BC5A-E35129B8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D4C-B070-4D63-AE24-1DA29972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76A-798E-4546-A727-C09F0147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498-72F4-4BEE-A4A0-7C3698B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A36-330D-4053-B700-F3666BEE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773-FDB0-459A-B3F7-1B8CB596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9E2-4DC3-4927-9724-9D6B8CF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E52-99CE-40FB-BCA3-5AA9CDE7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540-7AEB-4D06-B4E2-1CCF589F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08DE-A3E6-4DD1-85F7-A3BDD1234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7" descr=""/>
          <p:cNvPicPr/>
          <p:nvPr/>
        </p:nvPicPr>
        <p:blipFill>
          <a:blip r:embed="rId2"/>
          <a:stretch/>
        </p:blipFill>
        <p:spPr>
          <a:xfrm>
            <a:off x="652320" y="2146320"/>
            <a:ext cx="73216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lipboard ic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2666880" y="16765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'm currently working as technician in Laboratory doing animal resear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666880" y="31240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y expectations for this course are: Learn to identify sources, which one are better, accurate and rel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2666880" y="39625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 better inform decision maker in every aspect of my life  having the ability to find, evaluate the informatio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666880" y="22860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thought that I was good in research but in this class I realize that I have a lot to lea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t1.gstatic.com/images?q=tbn:ANd9GcRsbE4oVglCnCbD_02r8REhiWL-SK0dj_ISW1rbTFOvCMonyarEOh3SZw"/>
          <p:cNvPicPr/>
          <p:nvPr/>
        </p:nvPicPr>
        <p:blipFill>
          <a:blip r:embed="rId1"/>
          <a:stretch/>
        </p:blipFill>
        <p:spPr>
          <a:xfrm>
            <a:off x="304920" y="1447920"/>
            <a:ext cx="2133360" cy="183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See full size image"/>
          <p:cNvPicPr/>
          <p:nvPr/>
        </p:nvPicPr>
        <p:blipFill>
          <a:blip r:embed="rId2"/>
          <a:stretch/>
        </p:blipFill>
        <p:spPr>
          <a:xfrm>
            <a:off x="685800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media2.corbisimages.com/CorbisImage/hover/20/91/7555/20917555/42-20917555.jpg"/>
          <p:cNvPicPr/>
          <p:nvPr/>
        </p:nvPicPr>
        <p:blipFill>
          <a:blip r:embed="rId3"/>
          <a:stretch/>
        </p:blipFill>
        <p:spPr>
          <a:xfrm>
            <a:off x="3657600" y="2286000"/>
            <a:ext cx="206676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media1.corbisimages.com/CorbisImage/hover/23/6/2995/23062995/42-23062995.jpg"/>
          <p:cNvPicPr/>
          <p:nvPr/>
        </p:nvPicPr>
        <p:blipFill>
          <a:blip r:embed="rId4"/>
          <a:stretch/>
        </p:blipFill>
        <p:spPr>
          <a:xfrm>
            <a:off x="5562720" y="3352680"/>
            <a:ext cx="3276360" cy="333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://media1.corbisimages.com/CorbisImage/hover/23/94/1548/23941548/42-23941548.jpg"/>
          <p:cNvPicPr/>
          <p:nvPr/>
        </p:nvPicPr>
        <p:blipFill>
          <a:blip r:embed="rId5"/>
          <a:stretch/>
        </p:blipFill>
        <p:spPr>
          <a:xfrm>
            <a:off x="228600" y="3352680"/>
            <a:ext cx="333360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9" descr=""/>
          <p:cNvPicPr/>
          <p:nvPr/>
        </p:nvPicPr>
        <p:blipFill>
          <a:blip r:embed="rId6"/>
          <a:stretch/>
        </p:blipFill>
        <p:spPr>
          <a:xfrm>
            <a:off x="3498840" y="512640"/>
            <a:ext cx="31035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bb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media1.corbisimages.com/CorbisImage/hover/20/91/7818/20917818/42-20917818.jpg"/>
          <p:cNvPicPr/>
          <p:nvPr/>
        </p:nvPicPr>
        <p:blipFill>
          <a:blip r:embed="rId1"/>
          <a:stretch/>
        </p:blipFill>
        <p:spPr>
          <a:xfrm>
            <a:off x="457200" y="1523880"/>
            <a:ext cx="333360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media1.corbisimages.com/CorbisImage/hover/20/91/7776/20917776/42-20917776.jpg"/>
          <p:cNvPicPr/>
          <p:nvPr/>
        </p:nvPicPr>
        <p:blipFill>
          <a:blip r:embed="rId2"/>
          <a:stretch/>
        </p:blipFill>
        <p:spPr>
          <a:xfrm>
            <a:off x="5410080" y="1523880"/>
            <a:ext cx="20574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http://www.cartoonstock.com/lowres/cga0233l.jpg"/>
          <p:cNvPicPr/>
          <p:nvPr/>
        </p:nvPicPr>
        <p:blipFill>
          <a:blip r:embed="rId1"/>
          <a:stretch/>
        </p:blipFill>
        <p:spPr>
          <a:xfrm>
            <a:off x="1676520" y="1523880"/>
            <a:ext cx="5486400" cy="419112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2" descr=""/>
          <p:cNvPicPr/>
          <p:nvPr/>
        </p:nvPicPr>
        <p:blipFill>
          <a:blip r:embed="rId2"/>
          <a:stretch/>
        </p:blipFill>
        <p:spPr>
          <a:xfrm>
            <a:off x="3041640" y="285840"/>
            <a:ext cx="268272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media3.corbisimages.com/CorbisImage/hover/17/78/6693/17786693/42-17786693.jpg"/>
          <p:cNvPicPr/>
          <p:nvPr/>
        </p:nvPicPr>
        <p:blipFill>
          <a:blip r:embed="rId1"/>
          <a:stretch/>
        </p:blipFill>
        <p:spPr>
          <a:xfrm>
            <a:off x="380880" y="1447920"/>
            <a:ext cx="2200320" cy="333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media2.corbisimages.com/CorbisImage/hover/16/27/2535/16272535/42-16272535.jpg"/>
          <p:cNvPicPr/>
          <p:nvPr/>
        </p:nvPicPr>
        <p:blipFill>
          <a:blip r:embed="rId2"/>
          <a:stretch/>
        </p:blipFill>
        <p:spPr>
          <a:xfrm>
            <a:off x="5334120" y="182880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media3.corbisimages.com/CorbisImage/hover/14/2/8314/14028314/OZ001463.jpg"/>
          <p:cNvPicPr/>
          <p:nvPr/>
        </p:nvPicPr>
        <p:blipFill>
          <a:blip r:embed="rId3"/>
          <a:stretch/>
        </p:blipFill>
        <p:spPr>
          <a:xfrm>
            <a:off x="2895480" y="3200400"/>
            <a:ext cx="2210040" cy="33336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6" descr=""/>
          <p:cNvPicPr/>
          <p:nvPr/>
        </p:nvPicPr>
        <p:blipFill>
          <a:blip r:embed="rId4"/>
          <a:stretch/>
        </p:blipFill>
        <p:spPr>
          <a:xfrm>
            <a:off x="3029040" y="285840"/>
            <a:ext cx="23842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tock vector : Family tree with cartoon famil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835200" y="-171360"/>
            <a:ext cx="33652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http://www.computerarts.co.uk/__data/assets/image/7778/3DW60featureincredibl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03:02:26Z</dcterms:created>
  <dc:creator>paz</dc:creator>
  <dc:description/>
  <dc:language>en-US</dc:language>
  <cp:lastModifiedBy>training</cp:lastModifiedBy>
  <dcterms:modified xsi:type="dcterms:W3CDTF">2011-06-12T17:24:22Z</dcterms:modified>
  <cp:revision>11</cp:revision>
  <dc:subject/>
  <dc:title>Slide 1</dc:title>
</cp:coreProperties>
</file>